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CA1-D9C8-4E96-8647-555EA979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B12-A77D-4145-8F3A-4F9984C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96C-E40B-49E3-A2FC-E7CAF0A6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489-3CDE-43C8-B0DC-DB4FA6BC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79B-0288-4965-A22E-732CFC0B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358-0C39-4B52-BE62-148D7D14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A7C-C00A-4F0E-B56C-E8901F03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FFE-F449-4437-BD43-379994EA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B96-9C01-4CDA-A60A-36DEA237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03D-C913-46B3-B23E-B6BD640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AE5-7C01-40F3-87AB-5682796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3BE-6D3F-4EFE-B7D9-68505FB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063-1341-429C-8A6E-54A6BE38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601200" cy="68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562720" y="5267160"/>
          <a:ext cx="333504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5267160"/>
                    <a:ext cx="3335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85800" y="228600"/>
            <a:ext cx="8686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Dabas liegums “Gudeniek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Zemes vienības un to kadastra num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534160" y="4191120"/>
            <a:ext cx="152280" cy="457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9436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K Noteikumos Nr212 (1999) noteiktā dabas lieguma “Gudenieki”robež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095880"/>
            <a:ext cx="152640" cy="0"/>
          </a:xfrm>
          <a:prstGeom prst="line">
            <a:avLst/>
          </a:prstGeom>
          <a:ln w="190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51:24Z</dcterms:created>
  <dc:creator>Loreta Urtane</dc:creator>
  <dc:description/>
  <dc:language>en-US</dc:language>
  <cp:lastModifiedBy>astrida</cp:lastModifiedBy>
  <cp:lastPrinted>2001-08-15T07:37:06Z</cp:lastPrinted>
  <dcterms:modified xsi:type="dcterms:W3CDTF">2001-08-15T07:39:56Z</dcterms:modified>
  <cp:revision>7</cp:revision>
  <dc:subject/>
  <dc:title>No Slide Title</dc:title>
</cp:coreProperties>
</file>